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AC7-FABE-4ECD-AF31-0C1DACA2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3516-22E4-4776-B2DD-152DAACA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218-9F1D-49AB-8F15-A4F741F1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DEE3-FC5E-4AC0-BADC-AE1AF079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B79-C415-4322-8766-D1408B7A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809-ABCF-40AA-8E8D-4C588199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CD2-AB1F-4DFE-AFE4-32FB4841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41D-8710-4A72-9D94-F179E853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4DC-86FF-452B-9172-4CC2012F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669C-419C-4566-B144-43530DE2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787C-0EE0-494D-BE98-2BACA84B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F0E-007A-433E-9A11-FCF4F917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524D-85EE-441E-BDA8-5EEEF8841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edieval2.heavengames.com/m2tw/history/miscellaneous_history_folder/mongol_weapons/talwar.jpg&amp;imgrefurl=http://www.twcenter.net/forums/showthread.php%3Ft%3D353575&amp;usg=__FNfW2U05xD4Me_vO1rUm4ItDogY=&amp;h=599&amp;w=800&amp;sz=91&amp;hl=en&amp;start=19&amp;zoom=1&amp;itbs=1&amp;tbnid=D1N4_hg-ynSk5M:&amp;tbnh=107&amp;tbnw=143&amp;prev=/images%3Fq%3Drussian%2Bweapons%2Bused%2Bagainst%2Bmongols%2Bin%2Bhistory%26hl%3Den%26gbv%3D2%26tbs%3Disch:1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en.wikipedia.org/wiki/File:1000_Ivan_III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BEFORE 14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LAVIC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840" y="2133720"/>
            <a:ext cx="4632480" cy="4724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648320" y="2114640"/>
            <a:ext cx="44956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tures by: Erik Bar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ing by: Erik Bar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cy appearances by: Erik Bar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show by: Erik Bar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EGI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g bad Russians descended from Slavs that settled in Ukraine and Russia. In 800 A.D. the Slavs built civilization around now a day Kiev. They called it Kieven Ru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NEW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000 A.D. their leader accepted Eastern Orthodox Christianity. From 1200 A.D. – 1400 A.D, Mongolians ruled over the Sla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KING BACK WHAT WAS THE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cow became a new Slavic area named Muscovy. Their noble prince Ivan the third drove out the Mongols giving Muscovy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ImageShack, share photos, pictures, free image hosting, free video hosting, image hosting, video hosting, photo image hosting site, video hosting site"/>
          <p:cNvPicPr/>
          <p:nvPr/>
        </p:nvPicPr>
        <p:blipFill>
          <a:blip r:embed="rId1"/>
          <a:stretch/>
        </p:blipFill>
        <p:spPr>
          <a:xfrm>
            <a:off x="-990720" y="0"/>
            <a:ext cx="11125440" cy="8325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stock photo : Russian czar Ivan III. Detail of the Monument to the Millennium of Russia from 1864 in Veliky Novgorod, Russ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447920"/>
            <a:ext cx="487692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ing Ivan the thi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1000 Ivan III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523880"/>
            <a:ext cx="373392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3371760" cy="5505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ic territo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962520"/>
            <a:ext cx="3733920" cy="485640"/>
          </a:xfrm>
          <a:prstGeom prst="leftArrow">
            <a:avLst>
              <a:gd name="adj1" fmla="val 50000"/>
              <a:gd name="adj2" fmla="val 1922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ssian Slavs Battle G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ImageShack, share photos of skythicon, share pictures of skythicon, share video of skythicon, free image hosting, free video hosting, image hosting, video hosting."/>
          <p:cNvPicPr/>
          <p:nvPr/>
        </p:nvPicPr>
        <p:blipFill>
          <a:blip r:embed="rId1"/>
          <a:stretch/>
        </p:blipFill>
        <p:spPr>
          <a:xfrm>
            <a:off x="457200" y="1676520"/>
            <a:ext cx="3657600" cy="4867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114800" y="3200400"/>
            <a:ext cx="5029200" cy="1247760"/>
          </a:xfrm>
          <a:prstGeom prst="leftArrow">
            <a:avLst>
              <a:gd name="adj1" fmla="val 50000"/>
              <a:gd name="adj2" fmla="val 1007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tle 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8:40:43Z</dcterms:created>
  <dc:creator> </dc:creator>
  <dc:description/>
  <dc:language>en-US</dc:language>
  <cp:lastModifiedBy> </cp:lastModifiedBy>
  <dcterms:modified xsi:type="dcterms:W3CDTF">2010-12-20T14:00:56Z</dcterms:modified>
  <cp:revision>12</cp:revision>
  <dc:subject/>
  <dc:title>HISTORY BEFORE 1917</dc:title>
</cp:coreProperties>
</file>